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F8B-8B69-451B-A770-8DB0D5B3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62F-2760-4E0F-ACA0-BBDCF2E3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1EEE-653E-45A3-9F49-6C4AF4E0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6B4-AA84-4658-91F2-4A252E00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487-C451-4356-8E96-808E014A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662-05F5-4754-A6FA-9ED6B8ED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E362-1A62-4923-8E78-60DCBE0A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FB4-15C7-44DE-A268-E035B951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9DE-9195-41A9-8571-617864E6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97F-7D23-4225-8C4E-F1A2D903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BFC-EF58-4D8F-A76C-71869C1D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381-3B81-4B45-B35E-A1C309CF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18B59-1BB1-4BA8-8863-5C9CC62643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5F427-377B-4914-8BD7-087B1D1F5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, the exce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always exceptions to these rules—that is just how the English language i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osed syllable excep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easy to remember with this 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w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l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l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l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was al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o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b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exceptions to the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vowel-consonant-e excep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you see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a word, most likely, the i is short and the e is silent (quiet).  Think of the letter v becoming lonely and needs a quiet buddy for company.  Some words are give, 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, the i is long: five, l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 your sound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FLEX MY SOUN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What does flex my sounds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To flex your sounds is to play with the sounds within the syllables.  Sometimes we do this when a word has two or more syllables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Flexing your syll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Look at this word:  ro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You could break it up this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rod     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Or this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ro  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Play with it and see which way sounds like a real 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ro d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2368440" y="2089080"/>
            <a:ext cx="440712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  <a:ea typeface="Chalkboard"/>
              </a:rPr>
              <a:t>Alright, go take a break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Remember to start with Slide 17 when you retur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Wave 6"/>
          <p:cNvSpPr/>
          <p:nvPr/>
        </p:nvSpPr>
        <p:spPr>
          <a:xfrm>
            <a:off x="1600200" y="4114800"/>
            <a:ext cx="3581280" cy="1295280"/>
          </a:xfrm>
          <a:custGeom>
            <a:avLst/>
            <a:gdLst>
              <a:gd name="textAreaLeft" fmla="*/ 0 w 3581280"/>
              <a:gd name="textAreaRight" fmla="*/ 3581640 w 35812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"/>
                <a:ea typeface="Chalkboard"/>
              </a:rPr>
              <a:t>HAVE FUN AND ENJOY THE GORGEOUS DAY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2:19:44Z</dcterms:created>
  <dc:creator>Nancy Kring-Burns</dc:creator>
  <dc:description/>
  <dc:language>en-US</dc:language>
  <cp:lastModifiedBy>Nancy Kring-Burns</cp:lastModifiedBy>
  <dcterms:modified xsi:type="dcterms:W3CDTF">2008-07-28T03:02:03Z</dcterms:modified>
  <cp:revision>3</cp:revision>
  <dc:subject/>
  <dc:title>Slide 1</dc:title>
</cp:coreProperties>
</file>