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54E0-6B98-4828-96A1-623023AE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33B-C39E-4078-A3FF-BDB07621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1037-3EA3-4E31-B36C-A9E97A43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B02-5753-47A8-9ABF-FC615E4A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A69-72D7-4003-B77C-0110DDD9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38DC-5847-4573-81F9-2EF39E68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C698-68F8-406C-A430-332FCF60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5EA-257C-4E08-B704-DCCBE480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BB34-C380-4A26-A094-DBE74DBD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A04-E198-4FE5-A152-29589FCC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0D7-010B-4491-9D07-211CBFA2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DF18-03CA-41BE-ACAA-1D8C2114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DC99B-6B77-4EA3-B60E-304653B14A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3CCCE-E92B-4E91-832E-713FA7C22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, the exce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always exceptions to these rules—that is just how the English language i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osed syllable excep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easy to remember with this 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w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l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l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l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was al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bl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exceptions to the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vowel-consonant-e excep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you see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a word, most likely, the i is short and the e is silent (quiet).  Think of the letter v becoming lonely and needs a quiet buddy for company.  Some words are give, 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, the i is long: five, l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 your sound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FLEX MY SOUN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What does flex my sounds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o flex your sounds is to play with the sounds within the syllables.  Sometimes we do this when a word has two or more syllables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Flexing your syll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Look at this word:  ro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You could break it up this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rod     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Or this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ro  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Play with it and see which way sounds like a real 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ro d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2368440" y="2089080"/>
            <a:ext cx="4407120" cy="38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Alright, go take a break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Remember to start with Slide 17 when you retur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Wave 6"/>
          <p:cNvSpPr/>
          <p:nvPr/>
        </p:nvSpPr>
        <p:spPr>
          <a:xfrm>
            <a:off x="1600200" y="4114800"/>
            <a:ext cx="3581280" cy="1295280"/>
          </a:xfrm>
          <a:custGeom>
            <a:avLst/>
            <a:gdLst>
              <a:gd name="textAreaLeft" fmla="*/ 0 w 3581280"/>
              <a:gd name="textAreaRight" fmla="*/ 3581640 w 35812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  <a:ea typeface="Chalkboard"/>
              </a:rPr>
              <a:t>HAVE FUN AND ENJOY THE GORGEOUS DAY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2:19:44Z</dcterms:created>
  <dc:creator>Nancy Kring-Burns</dc:creator>
  <dc:description/>
  <dc:language>en-US</dc:language>
  <cp:lastModifiedBy>Nancy Kring-Burns</cp:lastModifiedBy>
  <dcterms:modified xsi:type="dcterms:W3CDTF">2008-07-28T03:02:03Z</dcterms:modified>
  <cp:revision>3</cp:revision>
  <dc:subject/>
  <dc:title>Slide 1</dc:title>
</cp:coreProperties>
</file>