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4B1-E165-43D2-BB88-D942032C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071-5F58-468A-A70A-0C357C13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0A0-0299-455C-8635-E692CC96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51C-7343-4071-A29F-0392C1C8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6C5-0B7F-4B1F-B13B-B4DE822F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56B-60DA-4CF9-BD61-0C747E52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EF3-464F-40AC-AF21-1C42F9F6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9C7-40E9-4AD3-88D9-4B8C9A8B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CE8-FF47-48CD-8062-E3B5A9A8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F84-A730-499C-90BA-0D99B097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0F1-7496-4D6C-9173-F5B2D26B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40F-4AED-4BB3-86B5-561769AA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72DC8-7EBB-4D06-8E90-20655C1304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F47D3-17C5-4B35-974D-5850A407E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, the ex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always exceptions to these rules—that is just how the English language i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osed syllable excep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easy to remember with this 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w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l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l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l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was al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exceptions to the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vowel-consonant-e excep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you see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a word, most likely, the i is short and the e is silent (quiet).  Think of the letter v becoming lonely and needs a quiet buddy for company.  Some words are give, 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, the i is long: five, l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 your sou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FLEX MY SOU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What does flex my sounds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o flex your sounds is to play with the sounds within the syllables.  Sometimes we do this when a word has two or more syllables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Flexing your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Look at this word:  ro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You could break it up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od     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Or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o  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Play with it and see which way sounds like a real 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ro d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2368440" y="2089080"/>
            <a:ext cx="440712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Alright, go take a break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emember to start with Slide 17 when you retur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Wave 6"/>
          <p:cNvSpPr/>
          <p:nvPr/>
        </p:nvSpPr>
        <p:spPr>
          <a:xfrm>
            <a:off x="1600200" y="4114800"/>
            <a:ext cx="3581280" cy="1295280"/>
          </a:xfrm>
          <a:custGeom>
            <a:avLst/>
            <a:gdLst>
              <a:gd name="textAreaLeft" fmla="*/ 0 w 3581280"/>
              <a:gd name="textAreaRight" fmla="*/ 3581640 w 35812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  <a:ea typeface="Chalkboard"/>
              </a:rPr>
              <a:t>HAVE FUN AND ENJOY THE GORGEOUS DAY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2:19:44Z</dcterms:created>
  <dc:creator>Nancy Kring-Burns</dc:creator>
  <dc:description/>
  <dc:language>en-US</dc:language>
  <cp:lastModifiedBy>Nancy Kring-Burns</cp:lastModifiedBy>
  <dcterms:modified xsi:type="dcterms:W3CDTF">2008-07-28T03:02:03Z</dcterms:modified>
  <cp:revision>3</cp:revision>
  <dc:subject/>
  <dc:title>Slide 1</dc:title>
</cp:coreProperties>
</file>