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4E6B-784E-49DC-A071-94120F78A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2E28-26B1-492E-ABAC-E79B28CA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BEC2-56D5-4D67-8AD3-F95BC6317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BC38-682C-416B-A9FF-7696A99C9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0345-1B2D-403F-AB1B-06446630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B1DC-2690-44D6-9E7C-A341910C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8562-0499-42EF-9D90-55E5BF1B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BB51-3468-4836-A80D-FF6F9124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0C7D-8242-478F-A83E-77AD5A05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9B08-6601-4367-A422-3316DCBD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7B32-6E1B-43A6-B37B-D111F8E4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69CA-3E01-45A7-978A-0DB20D99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9A8CA0-A393-41E6-B86E-526D64CE87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E9133B-04AF-4FA4-85AD-FBD73CD1E5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  <a:ea typeface="Chalkboard"/>
              </a:rPr>
              <a:t>SYLLABL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rs. Kring-Bur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  <a:ea typeface="Chalkboard"/>
              </a:rPr>
              <a:t>Syllabl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halkboard"/>
                <a:ea typeface="Chalkboard"/>
              </a:rPr>
              <a:t>Closed Syllable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  <a:ea typeface="Chalkboard"/>
              </a:rPr>
              <a:t>   one vowel followed by one or more conson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halkboard"/>
                <a:ea typeface="Chalkboard"/>
              </a:rPr>
              <a:t>V-C-E Syllable   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  <a:ea typeface="Chalkboard"/>
              </a:rPr>
              <a:t>one vowel followed by a consonant followed by a silent 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halkboard"/>
                <a:ea typeface="Chalkboard"/>
              </a:rPr>
              <a:t>Open Syllable   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  <a:ea typeface="Chalkboard"/>
              </a:rPr>
              <a:t>a syllable that ends with a vowel and the vowel is long (says its own nam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  <a:ea typeface="Chalkboard"/>
              </a:rPr>
              <a:t>CLOSED SYLL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One vowel followed by at least one conson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The vowel sound is sh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Examples are cap, pet, hid, hop, bu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  <a:ea typeface="Chalkboard"/>
              </a:rPr>
              <a:t>VOWEL- CONSONANT- 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The vowel is followed by a consonant and an ‘e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The vowel sound is long (the vowel says its own nam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EXAMPLES are: cape, Pete, pine, hope, tu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  <a:ea typeface="Chalkboard"/>
              </a:rPr>
              <a:t>OPEN SYLL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The vowel ends the sy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The vowel sound is long (the vowel says its own nam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He, she, me, try, by, hi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  <a:ea typeface="Chalkboard"/>
              </a:rPr>
              <a:t>MORE OPEN SYLLABLE ‘STUFF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Sometimes the open syllable is the beginning of a two syllable word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EXAMPLES  are:  relax, before, because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prepare, ret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7T16:26:37Z</dcterms:created>
  <dc:creator>Nancy Kring-Burns</dc:creator>
  <dc:description/>
  <cp:keywords/>
  <dc:language>en-US</dc:language>
  <cp:lastModifiedBy>Nancy Kring-Burns</cp:lastModifiedBy>
  <dcterms:modified xsi:type="dcterms:W3CDTF">2008-07-28T02:19:00Z</dcterms:modified>
  <cp:revision>5</cp:revision>
  <dc:subject/>
  <dc:title>SYLLABLE TYPES</dc:title>
</cp:coreProperties>
</file>