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7C9-1018-44E7-A9E1-57FE333C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3C2-947B-4E64-8AE2-0B7F811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096-1618-4FD6-B72A-BDDB6536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E23-518D-4390-9B46-F1C96C03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8D1-EA9B-43FF-8891-9E855829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1DC-10B7-4597-A0F9-6BC8D412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9E1-8BCA-47D4-9AB4-1382D12E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F53-B8D0-4D7B-9353-5D629F3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FC7-69A5-4D21-8640-7E6E6B0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D714-0888-4540-9925-B0503AE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3B5-74D9-4E10-956F-F7C8980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04E-A807-4A5E-8370-82BBC31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AF134-3B56-4A5F-B46D-1F65F1E07B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272C-3AB6-4D3F-828C-A5CBE3FB1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Kring-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Syll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Closed Syllable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   one vowel followed by one or more conso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V-C-E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 consonant followed by a silent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halkboard"/>
                <a:ea typeface="Chalkboard"/>
              </a:rPr>
              <a:t>Open Syllable   </a:t>
            </a:r>
            <a:r>
              <a:rPr b="0" lang="en-US" sz="2800" spc="-1" strike="noStrike">
                <a:solidFill>
                  <a:srgbClr val="000000"/>
                </a:solidFill>
                <a:latin typeface="Chalkboard"/>
                <a:ea typeface="Chalkboard"/>
              </a:rPr>
              <a:t>a syllable that ends with a vowel and the vowel is long (says its ow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CLOSED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ne vowel followed by at least one conson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 cap, pet, hid, hop, b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VOWEL- CONSONANT- 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is followed by a consonant and an ‘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are: cape, Pete, pine, hope, 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OPEN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ends the sy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he vowel sound is long (the vowel says its own na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He, she, me, try, by, hi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MORE OPEN SYLLABLE ‘STUFF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Sometimes the open syllable is the beginning of a two syllable wor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EXAMPLES  are:  relax, before, becaus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repare, re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7T16:26:37Z</dcterms:created>
  <dc:creator>Nancy Kring-Burns</dc:creator>
  <dc:description/>
  <cp:keywords/>
  <dc:language>en-US</dc:language>
  <cp:lastModifiedBy>Nancy Kring-Burns</cp:lastModifiedBy>
  <dcterms:modified xsi:type="dcterms:W3CDTF">2008-07-28T02:19:00Z</dcterms:modified>
  <cp:revision>5</cp:revision>
  <dc:subject/>
  <dc:title>SYLLABLE TYPES</dc:title>
</cp:coreProperties>
</file>