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3EE-9F73-4C73-A3D2-EBFEE783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43D-709C-4DC3-8F4D-2442D758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C4C5-CB8D-4E93-ACDF-DCF327DB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38CF-023C-4811-AB5E-6C105A5F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B82-EEEE-4D1D-9682-B7BDB364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744-ACFF-4C8A-BCDF-58CD6029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3D5C-2F86-4442-9E12-EA5809C6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53A7-EC42-4E03-8AF6-E614B28B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255-9B2C-4FFD-95B2-EBD22362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2192-E947-466E-9539-D7213D26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8E07-F8E5-4B8D-B137-442F48E9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9D6-0BB3-430F-9590-71121139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1D54D-574A-4139-A4C3-CE767E4B46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08C3B-1019-4EE0-B4FE-73988618A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SYLL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s. Kring-Bu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Syll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halkboard"/>
                <a:ea typeface="Chalkboard"/>
              </a:rPr>
              <a:t>Closed Syllable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Chalkboard"/>
              </a:rPr>
              <a:t>   one vowel followed by one or more conson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halkboard"/>
                <a:ea typeface="Chalkboard"/>
              </a:rPr>
              <a:t>V-C-E Syllable   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Chalkboard"/>
              </a:rPr>
              <a:t>one vowel followed by a consonant followed by a silent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halkboard"/>
                <a:ea typeface="Chalkboard"/>
              </a:rPr>
              <a:t>Open Syllable   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Chalkboard"/>
              </a:rPr>
              <a:t>a syllable that ends with a vowel and the vowel is long (says its own na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CLOSED SYLL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One vowel followed by at least one conson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sound is sh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Examples are cap, pet, hid, hop, b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VOWEL- CONSONANT- 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is followed by a consonant and an ‘e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sound is long (the vowel says its own na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EXAMPLES are: cape, Pete, pine, hope, tu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OPEN SYLL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ends the sy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sound is long (the vowel says its own na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He, she, me, try, by, hi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MORE OPEN SYLLABLE ‘STUFF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Sometimes the open syllable is the beginning of a two syllable word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EXAMPLES  are:  relax, before, becaus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prepare, re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7T16:26:37Z</dcterms:created>
  <dc:creator>Nancy Kring-Burns</dc:creator>
  <dc:description/>
  <cp:keywords/>
  <dc:language>en-US</dc:language>
  <cp:lastModifiedBy>Nancy Kring-Burns</cp:lastModifiedBy>
  <dcterms:modified xsi:type="dcterms:W3CDTF">2008-07-28T02:19:00Z</dcterms:modified>
  <cp:revision>5</cp:revision>
  <dc:subject/>
  <dc:title>SYLLABLE TYPES</dc:title>
</cp:coreProperties>
</file>