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FBECC-1968-4670-8173-D2A206344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B2065-8F47-4A2C-9B32-F99525EC6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240FE-6B62-4314-AF89-D3DCD2549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4A935-F5E5-46E8-97DF-714E1DACE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A00EE-0945-4939-A181-8A67E2FE3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7B4B2-D88A-4117-8476-C098AF20F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4526E-33EE-48F3-9BA1-3EF3B2FA5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19DA8-9215-4362-A237-1B8E4F349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63D1D-D995-42FB-A2F1-FF3A0E7B8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5AEA9-ED69-4794-90D1-F8C2B5A34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2A9D6-8D6B-40C1-9803-DA3FD709F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F8F71-1EAA-480A-B4A3-73F86F1C0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BA8CEC-1979-4498-AA2A-4542AF48D40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195FC3E-2FB9-4FD9-8E5D-D03C9C1DB6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, the excep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re are always exceptions to these rules—that is just how the English language is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Closed syllable exception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re easy to remember with this sentenc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e w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ild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old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c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olt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was alm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ost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bl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ind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re exceptions to the ru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vowel-consonant-e exception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 you see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v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n a word, most likely, the i is short and the e is silent (quiet).  Think of the letter v becoming lonely and needs a quiet buddy for company.  Some words are give, liv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metimes, the i is long: five, liv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LEX your sounds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halkboard"/>
                <a:ea typeface="Chalkboard"/>
              </a:rPr>
              <a:t>FLEX MY SOUND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alkboard"/>
                <a:ea typeface="Chalkboard"/>
              </a:rPr>
              <a:t>What does flex my sounds mea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alkboard"/>
                <a:ea typeface="Chalkboard"/>
              </a:rPr>
              <a:t>To flex your sounds is to play with the sounds within the syllables.  Sometimes we do this when a word has two or more syllables.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halkboard"/>
                <a:ea typeface="Chalkboard"/>
              </a:rPr>
              <a:t>Flexing your syllab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alkboard"/>
                <a:ea typeface="Chalkboard"/>
              </a:rPr>
              <a:t>Look at this word:  rod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alkboard"/>
                <a:ea typeface="Chalkboard"/>
              </a:rPr>
              <a:t>You could break it up this wa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alkboard"/>
                <a:ea typeface="Chalkboard"/>
              </a:rPr>
              <a:t>rod     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alkboard"/>
                <a:ea typeface="Chalkboard"/>
              </a:rPr>
              <a:t>Or this wa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alkboard"/>
                <a:ea typeface="Chalkboard"/>
              </a:rPr>
              <a:t>ro  d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alkboard"/>
                <a:ea typeface="Chalkboard"/>
              </a:rPr>
              <a:t>Play with it and see which way sounds like a real wor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halkboard"/>
                <a:ea typeface="Chalkboard"/>
              </a:rPr>
              <a:t>ro d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Content Placeholder 3" descr=""/>
          <p:cNvPicPr/>
          <p:nvPr/>
        </p:nvPicPr>
        <p:blipFill>
          <a:blip r:embed="rId1"/>
          <a:stretch/>
        </p:blipFill>
        <p:spPr>
          <a:xfrm>
            <a:off x="2368440" y="2089080"/>
            <a:ext cx="4407120" cy="389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halkboard"/>
                <a:ea typeface="Chalkboard"/>
              </a:rPr>
              <a:t>Alright, go take a break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alkboard"/>
                <a:ea typeface="Chalkboard"/>
              </a:rPr>
              <a:t>Remember to start with Slide 17 when you return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Wave 6"/>
          <p:cNvSpPr/>
          <p:nvPr/>
        </p:nvSpPr>
        <p:spPr>
          <a:xfrm>
            <a:off x="1600200" y="4114800"/>
            <a:ext cx="3581280" cy="1295280"/>
          </a:xfrm>
          <a:custGeom>
            <a:avLst/>
            <a:gdLst>
              <a:gd name="textAreaLeft" fmla="*/ 0 w 3581280"/>
              <a:gd name="textAreaRight" fmla="*/ 3581640 w 3581280"/>
              <a:gd name="textAreaTop" fmla="*/ 323640 h 1295280"/>
              <a:gd name="textAreaBottom" fmla="*/ 97164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2700"/>
                </a:moveTo>
                <a:cubicBezTo>
                  <a:pt x="7200" y="-6865"/>
                  <a:pt x="14400" y="12265"/>
                  <a:pt x="21600" y="2700"/>
                </a:cubicBezTo>
                <a:lnTo>
                  <a:pt x="21600" y="18900"/>
                </a:lnTo>
                <a:cubicBezTo>
                  <a:pt x="14400" y="28465"/>
                  <a:pt x="7200" y="9335"/>
                  <a:pt x="0" y="18900"/>
                </a:cubicBez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  <a:ea typeface="Chalkboard"/>
              </a:rPr>
              <a:t>HAVE FUN AND ENJOY THE GORGEOUS DAY!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8T02:19:44Z</dcterms:created>
  <dc:creator>Nancy Kring-Burns</dc:creator>
  <dc:description/>
  <dc:language>en-US</dc:language>
  <cp:lastModifiedBy>Nancy Kring-Burns</cp:lastModifiedBy>
  <dcterms:modified xsi:type="dcterms:W3CDTF">2008-07-28T03:02:03Z</dcterms:modified>
  <cp:revision>3</cp:revision>
  <dc:subject/>
  <dc:title>Slide 1</dc:title>
</cp:coreProperties>
</file>