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A3F0-F0BE-44E6-A4D5-69CF8427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6D2D-CECE-4972-BA7B-92A216AC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2EE8-530B-4B9E-916A-83B837B59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B043-0474-47C5-A5C2-F9590489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0DD4-8C55-4225-910C-7DE2786B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3287-35FE-47F1-9830-4595587C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4DB0-DCEF-417C-BF9C-E442CBD1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0CAD-7306-4F0A-B259-7C21D9AC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3DE4-29DE-4A2C-A448-E7F27236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ED27-670B-4054-8984-3D14240E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53DE-BA09-4FAB-8C3D-91145F8B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9204-AF2D-482E-8375-32869720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92D4CE-782D-4E61-9FB6-8078EE7D26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995FDF-F801-4FF8-B435-F5782FD1D2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, the exce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always exceptions to these rules—that is just how the English language i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losed syllable exception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easy to remember with this sente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w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l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l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l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was alm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s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bl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exceptions to the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vowel-consonant-e excep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you see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a word, most likely, the i is short and the e is silent (quiet).  Think of the letter v becoming lonely and needs a quiet buddy for company.  Some words are give, l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imes, the i is long: five, liv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EX your sound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FLEX MY SOUN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What does flex my sounds me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To flex your sounds is to play with the sounds within the syllables.  Sometimes we do this when a word has two or more syllables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Flexing your syll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Look at this word:  ro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You could break it up this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rod     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Or this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ro  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Play with it and see which way sounds like a real w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ro d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"/>
          <p:cNvPicPr/>
          <p:nvPr/>
        </p:nvPicPr>
        <p:blipFill>
          <a:blip r:embed="rId1"/>
          <a:stretch/>
        </p:blipFill>
        <p:spPr>
          <a:xfrm>
            <a:off x="2368440" y="2089080"/>
            <a:ext cx="4407120" cy="389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Alright, go take a break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Remember to start with Slide 17 when you retur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Wave 6"/>
          <p:cNvSpPr/>
          <p:nvPr/>
        </p:nvSpPr>
        <p:spPr>
          <a:xfrm>
            <a:off x="1600200" y="4114800"/>
            <a:ext cx="3581280" cy="1295280"/>
          </a:xfrm>
          <a:custGeom>
            <a:avLst/>
            <a:gdLst>
              <a:gd name="textAreaLeft" fmla="*/ 0 w 3581280"/>
              <a:gd name="textAreaRight" fmla="*/ 3581640 w 358128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  <a:ea typeface="Chalkboard"/>
              </a:rPr>
              <a:t>HAVE FUN AND ENJOY THE GORGEOUS DAY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8T02:19:44Z</dcterms:created>
  <dc:creator>Nancy Kring-Burns</dc:creator>
  <dc:description/>
  <dc:language>en-US</dc:language>
  <cp:lastModifiedBy>Nancy Kring-Burns</cp:lastModifiedBy>
  <dcterms:modified xsi:type="dcterms:W3CDTF">2008-07-28T03:02:03Z</dcterms:modified>
  <cp:revision>3</cp:revision>
  <dc:subject/>
  <dc:title>Slide 1</dc:title>
</cp:coreProperties>
</file>