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F18-D6A2-4BD5-8D2A-4E1F1A01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71A-82D3-47A0-8587-21A374DB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4E9-55E4-4D92-AD28-1407C7E5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DA3-091E-40A2-939E-BAD1EFD5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D38-E16F-4179-B397-D6EEC58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9A5-B186-4B6C-8757-6D5AEB9E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25C-E9D0-42B7-AF81-35640FB5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CF7-4775-4F7E-A1BE-5AE70013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23D-29BF-4130-B38B-A50146B3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DDA-50D8-45BA-8621-F141FF2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600-0FAC-491B-96EB-976CA4D9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656-4EB3-46B3-BE44-35F14B5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CEB79-0557-4C32-8FAB-70EE2DB31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D7D6A-4390-4CE3-B8D3-D6ECFA5CB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Kring-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Closed Syllabl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   one vowel followed by one or more conso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V-C-E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 consonant followed by a silent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Open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a syllable that ends with a vowel and the vowel is long (says its ow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CLOSED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t least one conson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 cap, pet, hid, hop, b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VOWEL- CONSONANT- 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is followed by a consonant and an ‘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: cape, Pete, pine, hope, 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OPEN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ends the sy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He, she, me, try, by, h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MORE OPEN SYLLABLE ‘STUFF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Sometimes the open syllable is the beginning of a two syllable wor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 are:  relax, before, becaus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repare, re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6:26:37Z</dcterms:created>
  <dc:creator>Nancy Kring-Burns</dc:creator>
  <dc:description/>
  <cp:keywords/>
  <dc:language>en-US</dc:language>
  <cp:lastModifiedBy>Nancy Kring-Burns</cp:lastModifiedBy>
  <dcterms:modified xsi:type="dcterms:W3CDTF">2008-07-28T02:19:00Z</dcterms:modified>
  <cp:revision>5</cp:revision>
  <dc:subject/>
  <dc:title>SYLLABLE TYPES</dc:title>
</cp:coreProperties>
</file>