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48A-6316-4B11-A3F4-EE44DBC3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594-D786-498E-8A17-A8F6FC07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BB8-A404-49E5-90FC-ECC9C8B1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5E7-8453-4FA6-BADA-AAE5358E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923-2D5E-4C80-BF53-C21157C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A80-2F33-4F66-972B-A7FA5FA6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E1D-613E-410C-BA92-EBC5707D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DA5-2526-41B0-B290-27B0BD5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FCD-7805-44FD-94AF-110356D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90B-E34A-4369-BECC-47E611B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BD2-EFD7-4665-95FE-AD7C78E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A06-9CF7-4C50-A1B3-9D1C9A2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273C4-26F1-401E-B699-9E68EC496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6AD12-25B7-4555-AF0B-D67B59AA3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Kring-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Closed Syllabl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  one vowel followed by one or more conso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V-C-E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 consonant followed by a silent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Open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a syllable that ends with a vowel and the vowel is long (says its ow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CLOSED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t least one conson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 cap, pet, hid, hop, b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VOWEL- CONSONANT- 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is followed by a consonant and an ‘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: cape, Pete, pine, hope, 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OPEN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ends the sy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He, she, me, try, by, h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MORE OPEN SYLLABLE ‘STUFF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Sometimes the open syllable is the beginning of a two syllable wor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 are:  relax, before, becau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repare, re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6:26:37Z</dcterms:created>
  <dc:creator>Nancy Kring-Burns</dc:creator>
  <dc:description/>
  <cp:keywords/>
  <dc:language>en-US</dc:language>
  <cp:lastModifiedBy>Nancy Kring-Burns</cp:lastModifiedBy>
  <dcterms:modified xsi:type="dcterms:W3CDTF">2008-07-28T02:19:00Z</dcterms:modified>
  <cp:revision>5</cp:revision>
  <dc:subject/>
  <dc:title>SYLLABLE TYPES</dc:title>
</cp:coreProperties>
</file>